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627F-7C38-41A7-BD69-70545E27D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0150-CB82-4D04-949F-AEB06A118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5390-9A3D-405D-8B31-8CAB0FCD8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8C54-20AB-481E-8CD1-21AADDDBE7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1C3-B387-45DE-AEC8-464B16030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5D14-B19E-40F3-946D-D57B9BB41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A843-A8E5-4E81-911A-9665ED7BA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01C5-C41C-4426-9FA8-130D3F2D9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D6D3-9808-4E90-9B1C-531CA35D80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54CD-C72E-41E7-8432-7AB7723AC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3F1-0A7B-4A50-8835-6F9F2B34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572-76BD-4233-B490-55A48890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657-FBD7-418E-A671-62FB17CE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AF8-0F86-4C02-BD81-831FF049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EC2-3CA5-48C3-9242-278CCD91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C8A-75C7-46A9-A14E-1479A4BA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C31-3107-4ACC-B81E-54FEAC3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946-E471-47F1-A417-FFF279F7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37A-E8CD-4426-9DF2-3820553A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8D2-B622-4B8C-ABA0-77F9D95A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8BF-2A7F-4333-8708-01B79825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AF8-FAC7-4B2F-A3CE-348C7BD5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BA1E-9178-413D-A3F2-95EBE8184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263520" y="4348080"/>
            <a:ext cx="33685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50920" y="2214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267"/>
                </a:solidFill>
                <a:latin typeface="Calibri"/>
              </a:rPr>
              <a:t>Сообщество «Сделаем вместе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4"/>
          <p:cNvSpPr/>
          <p:nvPr/>
        </p:nvSpPr>
        <p:spPr>
          <a:xfrm>
            <a:off x="468360" y="2984400"/>
            <a:ext cx="84978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- это 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отни тысяч добровольцев, которые, независимо от политических и религиозных взглядов или профессиональных предпочтений,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содействуют развитию в России современной отрасли по обращению с отходами.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  Работа в этом направлении направлена на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овышение качества окружающей среды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, привлечение внимания населения к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роблемам экологии и способам их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rcRect l="6002" t="0" r="4252" b="0"/>
          <a:stretch/>
        </p:blipFill>
        <p:spPr>
          <a:xfrm>
            <a:off x="272880" y="4751280"/>
            <a:ext cx="18464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947960" y="5537160"/>
            <a:ext cx="14857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23720" y="5603760"/>
            <a:ext cx="136224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195640" y="4732200"/>
            <a:ext cx="1238040" cy="77184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4"/>
          <p:cNvSpPr/>
          <p:nvPr/>
        </p:nvSpPr>
        <p:spPr>
          <a:xfrm>
            <a:off x="4365720" y="4348080"/>
            <a:ext cx="455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Проект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«Эк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ероприятия, материалы, пособия по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му просвещ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4"/>
          <p:cNvSpPr/>
          <p:nvPr/>
        </p:nvSpPr>
        <p:spPr>
          <a:xfrm>
            <a:off x="1104840" y="4348080"/>
            <a:ext cx="18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Наш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2195640" y="4732200"/>
            <a:ext cx="1238040" cy="871560"/>
          </a:xfrm>
          <a:prstGeom prst="ellipse">
            <a:avLst/>
          </a:prstGeom>
          <a:noFill/>
          <a:ln w="25560">
            <a:solidFill>
              <a:srgbClr val="f21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>
            <a:off x="3632040" y="5111640"/>
            <a:ext cx="733680" cy="720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383000" y="4348080"/>
            <a:ext cx="453888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27720" y="5348160"/>
            <a:ext cx="36892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ультфиль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ечат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409e"/>
                </a:solidFill>
                <a:uFillTx/>
                <a:latin typeface="Calibri"/>
              </a:rPr>
              <a:t>Эко-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Sea\Рабочий стол\ЭкоЗнание\Комикс\Plakats_3(2).jpg"/>
          <p:cNvPicPr/>
          <p:nvPr/>
        </p:nvPicPr>
        <p:blipFill>
          <a:blip r:embed="rId6"/>
          <a:stretch/>
        </p:blipFill>
        <p:spPr>
          <a:xfrm>
            <a:off x="7280280" y="5397480"/>
            <a:ext cx="1440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7547040" y="3816360"/>
            <a:ext cx="69516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Эко-уроки «Сделаем вместе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4"/>
          <p:cNvSpPr/>
          <p:nvPr/>
        </p:nvSpPr>
        <p:spPr>
          <a:xfrm>
            <a:off x="395280" y="3357720"/>
            <a:ext cx="47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Sea\Рабочий стол\ЭкоЗнание\Детская акция - стоп-кадры\Детская акция Убирай-ка! в с. Красный путь[(000571)14-13-24].JPG"/>
          <p:cNvPicPr/>
          <p:nvPr/>
        </p:nvPicPr>
        <p:blipFill>
          <a:blip r:embed="rId3"/>
          <a:stretch/>
        </p:blipFill>
        <p:spPr>
          <a:xfrm>
            <a:off x="92160" y="5237280"/>
            <a:ext cx="1985760" cy="247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Sea\Рабочий стол\ЭкоЗнание\Детская акция - стоп-кадры\Детская акция Убирай-ка! в с. Красный путь[(000781)14-13-48].JPG"/>
          <p:cNvPicPr/>
          <p:nvPr/>
        </p:nvPicPr>
        <p:blipFill>
          <a:blip r:embed="rId4"/>
          <a:stretch/>
        </p:blipFill>
        <p:spPr>
          <a:xfrm>
            <a:off x="2371680" y="5224320"/>
            <a:ext cx="2035080" cy="250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Sea\Рабочий стол\ЭкоЗнание\Отчет (Детская акция)\Ленинский\7 октября д.д молодая гвардия\DSC00753.JPG"/>
          <p:cNvPicPr/>
          <p:nvPr/>
        </p:nvPicPr>
        <p:blipFill>
          <a:blip r:embed="rId5"/>
          <a:stretch/>
        </p:blipFill>
        <p:spPr>
          <a:xfrm>
            <a:off x="4730760" y="5237280"/>
            <a:ext cx="20415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Sea\Рабочий стол\ЭкоЗнание\Отчет (Детская акция)\Солнечногорский\IMG_4526.JPG"/>
          <p:cNvPicPr/>
          <p:nvPr/>
        </p:nvPicPr>
        <p:blipFill>
          <a:blip r:embed="rId6"/>
          <a:stretch/>
        </p:blipFill>
        <p:spPr>
          <a:xfrm>
            <a:off x="7034040" y="5267160"/>
            <a:ext cx="1976760" cy="2413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"/>
          <p:cNvSpPr/>
          <p:nvPr/>
        </p:nvSpPr>
        <p:spPr>
          <a:xfrm>
            <a:off x="187200" y="3429000"/>
            <a:ext cx="215928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8"/>
          <p:cNvSpPr/>
          <p:nvPr/>
        </p:nvSpPr>
        <p:spPr>
          <a:xfrm>
            <a:off x="2390760" y="3429000"/>
            <a:ext cx="21607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4595760" y="3429000"/>
            <a:ext cx="21589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799320" y="3429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4"/>
          <p:cNvSpPr/>
          <p:nvPr/>
        </p:nvSpPr>
        <p:spPr>
          <a:xfrm>
            <a:off x="6831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4"/>
          <p:cNvSpPr/>
          <p:nvPr/>
        </p:nvSpPr>
        <p:spPr>
          <a:xfrm>
            <a:off x="6831000" y="4403880"/>
            <a:ext cx="209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5073480" y="3830760"/>
            <a:ext cx="1203480" cy="633240"/>
          </a:xfrm>
          <a:prstGeom prst="rect">
            <a:avLst/>
          </a:prstGeom>
          <a:ln w="0">
            <a:noFill/>
          </a:ln>
        </p:spPr>
      </p:pic>
      <p:sp>
        <p:nvSpPr>
          <p:cNvPr id="78" name="Content Placeholder 4"/>
          <p:cNvSpPr/>
          <p:nvPr/>
        </p:nvSpPr>
        <p:spPr>
          <a:xfrm>
            <a:off x="4626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ля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4"/>
          <p:cNvSpPr/>
          <p:nvPr/>
        </p:nvSpPr>
        <p:spPr>
          <a:xfrm>
            <a:off x="4803840" y="4395960"/>
            <a:ext cx="17431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4"/>
          <p:cNvSpPr/>
          <p:nvPr/>
        </p:nvSpPr>
        <p:spPr>
          <a:xfrm>
            <a:off x="219240" y="3429000"/>
            <a:ext cx="209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в школа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4"/>
          <p:cNvSpPr/>
          <p:nvPr/>
        </p:nvSpPr>
        <p:spPr>
          <a:xfrm>
            <a:off x="219240" y="4395960"/>
            <a:ext cx="2095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етских д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292428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Уроки и практические занятия </a:t>
            </a: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– первый шаг в 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экологическом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743040" y="3795840"/>
            <a:ext cx="1047600" cy="703080"/>
          </a:xfrm>
          <a:prstGeom prst="rect">
            <a:avLst/>
          </a:prstGeom>
          <a:ln w="0">
            <a:noFill/>
          </a:ln>
        </p:spPr>
      </p:pic>
      <p:sp>
        <p:nvSpPr>
          <p:cNvPr id="84" name="Content Placeholder 4"/>
          <p:cNvSpPr/>
          <p:nvPr/>
        </p:nvSpPr>
        <p:spPr>
          <a:xfrm>
            <a:off x="2400480" y="346068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нтерактив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2581200" y="43308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нагля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1"/>
          <p:cNvSpPr/>
          <p:nvPr/>
        </p:nvSpPr>
        <p:spPr>
          <a:xfrm>
            <a:off x="2627280" y="3973680"/>
            <a:ext cx="574560" cy="349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92d050"/>
          </a:solidFill>
          <a:ln w="25560">
            <a:solidFill>
              <a:srgbClr val="719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>
            <a:off x="3441600" y="3987720"/>
            <a:ext cx="0" cy="365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3641760" y="4000680"/>
            <a:ext cx="604800" cy="293400"/>
            <a:chOff x="3641760" y="4000680"/>
            <a:chExt cx="604800" cy="293400"/>
          </a:xfrm>
        </p:grpSpPr>
        <p:sp>
          <p:nvSpPr>
            <p:cNvPr id="89" name="Овал 6"/>
            <p:cNvSpPr/>
            <p:nvPr/>
          </p:nvSpPr>
          <p:spPr>
            <a:xfrm>
              <a:off x="3641760" y="4000680"/>
              <a:ext cx="604800" cy="293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7"/>
            <p:cNvSpPr/>
            <p:nvPr/>
          </p:nvSpPr>
          <p:spPr>
            <a:xfrm>
              <a:off x="3840120" y="4040280"/>
              <a:ext cx="2077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Цель 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овысить уровень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й культуры и образования </a:t>
            </a: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в Росс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цивилизованного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обращения с отход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сознательного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 поведения на приро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330720" y="4375080"/>
            <a:ext cx="2338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4"/>
          <p:cNvSpPr/>
          <p:nvPr/>
        </p:nvSpPr>
        <p:spPr>
          <a:xfrm>
            <a:off x="395280" y="3357720"/>
            <a:ext cx="871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4637160" y="3789360"/>
            <a:ext cx="47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4"/>
          <p:cNvSpPr/>
          <p:nvPr/>
        </p:nvSpPr>
        <p:spPr>
          <a:xfrm>
            <a:off x="1763640" y="2997360"/>
            <a:ext cx="698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оказать всю серьезность проблемы отходов в России и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возможных вариантах обращения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комплексном подходе как наилучшем 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Объяснить, что каждый из нас может сделать для улучшения ситуации</a:t>
            </a:r>
            <a:br>
              <a:rPr sz="1800"/>
            </a:b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сти урок, как яркое и запоминающееся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Снабдить учителей и детей красивыми и наглядными материалами, которые захочется сохранить и показат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Через детей донести информацию до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Содержание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О проблеме от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Почему мусора стало так м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Отходы накапливаются и никуда не исчез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Что делать с отх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Захоронение на полиг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жиг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торичная переработ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ос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лекс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гры и практическ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Sea\Рабочий стол\ЭкоЗнание\Комикс\Plakats_2(2).jpg"/>
          <p:cNvPicPr/>
          <p:nvPr/>
        </p:nvPicPr>
        <p:blipFill>
          <a:blip r:embed="rId2"/>
          <a:stretch/>
        </p:blipFill>
        <p:spPr>
          <a:xfrm>
            <a:off x="4581360" y="4770360"/>
            <a:ext cx="2227320" cy="15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"/>
          <p:cNvPicPr/>
          <p:nvPr/>
        </p:nvPicPr>
        <p:blipFill>
          <a:blip r:embed="rId3"/>
          <a:srcRect l="75002" t="10308" r="2147" b="36637"/>
          <a:stretch/>
        </p:blipFill>
        <p:spPr>
          <a:xfrm>
            <a:off x="7423200" y="4608360"/>
            <a:ext cx="130788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8" descr="C:\Documents and Settings\Sea\Рабочий стол\ЭкоЗнание\Убирайка\Фото\МусорВМире\МусорныйОстров-2.jpg"/>
          <p:cNvPicPr/>
          <p:nvPr/>
        </p:nvPicPr>
        <p:blipFill>
          <a:blip r:embed="rId4"/>
          <a:stretch/>
        </p:blipFill>
        <p:spPr>
          <a:xfrm>
            <a:off x="5638680" y="2664000"/>
            <a:ext cx="2799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Формат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45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Аудитория</a:t>
            </a:r>
            <a:r>
              <a:rPr b="1" lang="en-US" sz="1800" spc="-1" strike="noStrike">
                <a:solidFill>
                  <a:srgbClr val="16409e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кол-во препода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30 человек – 1 препода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60 человек – 2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90 человек – 3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Необходимое оборуд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ТВ или проектор, доска для рис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ополнительные о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Формат адаптируется под конкретные условия проведения эко-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дение субботника (организация вывоза мус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Sea\Рабочий стол\ЭкоЗнание\Детская акция - стоп-кадры\Детская акция Убирай-ка! в с. Красный путь[(000391)14-12-59].JPG"/>
          <p:cNvPicPr/>
          <p:nvPr/>
        </p:nvPicPr>
        <p:blipFill>
          <a:blip r:embed="rId2"/>
          <a:stretch/>
        </p:blipFill>
        <p:spPr>
          <a:xfrm>
            <a:off x="4857840" y="3498840"/>
            <a:ext cx="376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Организация серии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3284280"/>
            <a:ext cx="4321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Заявка на проведение уро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Расчет сто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писание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бор и обучение волонт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огласование с учрежд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роведение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Отчет об у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рок подготовки – около 3х нед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16560" y="2822400"/>
            <a:ext cx="447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2664000" y="2852640"/>
            <a:ext cx="6300720" cy="3424680"/>
            <a:chOff x="2664000" y="2852640"/>
            <a:chExt cx="6300720" cy="3424680"/>
          </a:xfrm>
        </p:grpSpPr>
        <p:sp>
          <p:nvSpPr>
            <p:cNvPr id="118" name="Content Placeholder 4"/>
            <p:cNvSpPr/>
            <p:nvPr/>
          </p:nvSpPr>
          <p:spPr>
            <a:xfrm>
              <a:off x="2664000" y="2852640"/>
              <a:ext cx="6300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 «День Экологии созн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ntent Placeholder 4"/>
            <p:cNvSpPr/>
            <p:nvPr/>
          </p:nvSpPr>
          <p:spPr>
            <a:xfrm>
              <a:off x="3363840" y="4273920"/>
              <a:ext cx="51800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:  7515165</a:t>
              </a:r>
              <a:r>
                <a:rPr b="1" lang="en-US" sz="2000" spc="-1" strike="noStrike">
                  <a:solidFill>
                    <a:srgbClr val="16409e"/>
                  </a:solidFill>
                  <a:latin typeface="Calibri"/>
                </a:rPr>
                <a:t>@mail.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ontent Placeholder 4"/>
            <p:cNvSpPr/>
            <p:nvPr/>
          </p:nvSpPr>
          <p:spPr>
            <a:xfrm>
              <a:off x="2664000" y="5418000"/>
              <a:ext cx="4524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2733840" y="4765680"/>
              <a:ext cx="61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Телефон: 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495) 789-47-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2"/>
            <p:cNvSpPr/>
            <p:nvPr/>
          </p:nvSpPr>
          <p:spPr>
            <a:xfrm>
              <a:off x="2664000" y="5695920"/>
              <a:ext cx="622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4041720"/>
            <a:ext cx="2760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"/>
          <p:cNvGrpSpPr/>
          <p:nvPr/>
        </p:nvGrpSpPr>
        <p:grpSpPr>
          <a:xfrm>
            <a:off x="4084560" y="3879720"/>
            <a:ext cx="3838680" cy="961920"/>
            <a:chOff x="4084560" y="3879720"/>
            <a:chExt cx="3838680" cy="961920"/>
          </a:xfrm>
        </p:grpSpPr>
        <p:sp>
          <p:nvSpPr>
            <p:cNvPr id="127" name="Content Placeholder 4"/>
            <p:cNvSpPr/>
            <p:nvPr/>
          </p:nvSpPr>
          <p:spPr>
            <a:xfrm>
              <a:off x="4142880" y="3879720"/>
              <a:ext cx="293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Телеф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9"/>
            <p:cNvSpPr/>
            <p:nvPr/>
          </p:nvSpPr>
          <p:spPr>
            <a:xfrm>
              <a:off x="4084560" y="4260240"/>
              <a:ext cx="38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916) 181-33-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"/>
          <p:cNvGrpSpPr/>
          <p:nvPr/>
        </p:nvGrpSpPr>
        <p:grpSpPr>
          <a:xfrm>
            <a:off x="4084560" y="4689360"/>
            <a:ext cx="4664160" cy="890640"/>
            <a:chOff x="4084560" y="4689360"/>
            <a:chExt cx="4664160" cy="890640"/>
          </a:xfrm>
        </p:grpSpPr>
        <p:sp>
          <p:nvSpPr>
            <p:cNvPr id="130" name="Content Placeholder 4"/>
            <p:cNvSpPr/>
            <p:nvPr/>
          </p:nvSpPr>
          <p:spPr>
            <a:xfrm>
              <a:off x="4084560" y="4689360"/>
              <a:ext cx="2306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10"/>
            <p:cNvSpPr/>
            <p:nvPr/>
          </p:nvSpPr>
          <p:spPr>
            <a:xfrm>
              <a:off x="4355640" y="4998600"/>
              <a:ext cx="43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751565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@mail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4"/>
          <p:cNvGrpSpPr/>
          <p:nvPr/>
        </p:nvGrpSpPr>
        <p:grpSpPr>
          <a:xfrm>
            <a:off x="4084560" y="5446800"/>
            <a:ext cx="4575240" cy="847080"/>
            <a:chOff x="4084560" y="5446800"/>
            <a:chExt cx="4575240" cy="847080"/>
          </a:xfrm>
        </p:grpSpPr>
        <p:sp>
          <p:nvSpPr>
            <p:cNvPr id="133" name="Content Placeholder 4"/>
            <p:cNvSpPr/>
            <p:nvPr/>
          </p:nvSpPr>
          <p:spPr>
            <a:xfrm>
              <a:off x="4084560" y="5446800"/>
              <a:ext cx="33249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2"/>
            <p:cNvSpPr/>
            <p:nvPr/>
          </p:nvSpPr>
          <p:spPr>
            <a:xfrm>
              <a:off x="4084560" y="5712480"/>
              <a:ext cx="45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2989440"/>
            <a:ext cx="3333600" cy="34002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4149720" y="3130560"/>
            <a:ext cx="4630680" cy="887400"/>
            <a:chOff x="4149720" y="3130560"/>
            <a:chExt cx="4630680" cy="887400"/>
          </a:xfrm>
        </p:grpSpPr>
        <p:sp>
          <p:nvSpPr>
            <p:cNvPr id="137" name="Content Placeholder 4"/>
            <p:cNvSpPr/>
            <p:nvPr/>
          </p:nvSpPr>
          <p:spPr>
            <a:xfrm>
              <a:off x="4149720" y="3130560"/>
              <a:ext cx="45122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6"/>
            <p:cNvSpPr/>
            <p:nvPr/>
          </p:nvSpPr>
          <p:spPr>
            <a:xfrm>
              <a:off x="4370400" y="3436560"/>
              <a:ext cx="441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42:15Z</dcterms:created>
  <dc:creator>АМ</dc:creator>
  <dc:description/>
  <dc:language>en-US</dc:language>
  <cp:lastModifiedBy>Sea</cp:lastModifiedBy>
  <dcterms:modified xsi:type="dcterms:W3CDTF">2013-02-21T07:25:35Z</dcterms:modified>
  <cp:revision>175</cp:revision>
  <dc:subject/>
  <dc:title>Слайд 1</dc:title>
</cp:coreProperties>
</file>